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279-FA43-48E6-BD4A-F89801EB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3F5-9765-4914-AB4D-588E7F38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C06-EBEE-48E2-815E-4AEF73D4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6BA-5B43-4227-9730-7AF715AF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005E-D6FE-4C39-8124-F449B0AD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99A9-A75E-460D-A175-F200B703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2EDF-106D-4720-BD7B-0391C0C9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3F8E-A751-41E0-B9FA-F916FC6F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0325-F9B4-4BF8-87C9-FAB46023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78CE-9F74-4AFC-8DE5-150BE06F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E868-D950-4C9A-9D1B-68E18B97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505-B054-415C-9F4D-0CE9FF57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A5BD-09E1-4FDF-B509-D93C8165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B524-6350-4350-9C97-5935C9E5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56D0-EBBF-4327-8928-65A16FBF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B5CE-A0D2-4D34-AE8A-4753E7B8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C06F-3C46-45CE-8B8D-ED0F1EB5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9C5-9014-46F4-9224-6F9DA212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315-76AF-4F8A-8516-8EDC276E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3FE-043E-4F88-B27B-360034A0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138-F5C2-42B1-A366-96D864F7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B3A-3CFB-4F60-AAC7-5833C027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567-2DB0-486E-A680-70AC9667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773-5443-450E-946C-1860FAAF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CD88-0323-404F-90D6-A53BEC2B61A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A5D2-48F0-4B6C-91AD-DAB1B8DB5C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409760" y="1258920"/>
            <a:ext cx="6324480" cy="1099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Prepositions dictate the case of the noun they prece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28936231-F841-4AA7-8267-30C23FA9CE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70040" y="2666880"/>
          <a:ext cx="5330880" cy="3316320"/>
        </p:xfrm>
        <a:graphic>
          <a:graphicData uri="http://schemas.openxmlformats.org/drawingml/2006/table">
            <a:tbl>
              <a:tblPr/>
              <a:tblGrid>
                <a:gridCol w="2840040"/>
                <a:gridCol w="2490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os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to, i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ρο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to, towar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πο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(away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κ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(out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60280" y="2286000"/>
          <a:ext cx="8643960" cy="3421080"/>
        </p:xfrm>
        <a:graphic>
          <a:graphicData uri="http://schemas.openxmlformats.org/drawingml/2006/table">
            <a:tbl>
              <a:tblPr/>
              <a:tblGrid>
                <a:gridCol w="974880"/>
                <a:gridCol w="1604880"/>
                <a:gridCol w="606420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ερ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ximately, around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ερι τον Παυλο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around Pau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ning, about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ερι ἁμαρτια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concerning si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ὑπερ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ve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ὑπερ την γη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above the earth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behalf of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ὑπερ τεκνου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on behalf of a chil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ὑπ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ὑπο νομο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under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ὑπο του Πετρου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by Pet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2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0016BD35-916B-49F8-8779-0568651A69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2120" y="2209680"/>
            <a:ext cx="761976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y’ or ‘with’ occurs in English to indicat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nstrum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but in Greek th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dati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s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1AC58B00-84F7-4525-B3CD-542973D7053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143000" y="10843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2.4 Prepositions with on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2000" y="1698480"/>
          <a:ext cx="8820000" cy="4462560"/>
        </p:xfrm>
        <a:graphic>
          <a:graphicData uri="http://schemas.openxmlformats.org/drawingml/2006/table">
            <a:tbl>
              <a:tblPr/>
              <a:tblGrid>
                <a:gridCol w="1569960"/>
                <a:gridCol w="1606680"/>
                <a:gridCol w="56433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accusativ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, in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ρ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, tow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π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genitiv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way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ut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νωπι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(place) -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νωπιον του θεου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before G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ξ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 -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ξω της οἰκα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outside the 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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ἑω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- 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ἑω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until th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ρ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(time) 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ρο σαββατο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befor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dativ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υν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υν αὐτοι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with 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11551C24-21E1-45FC-A400-FB35767F59A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73200" y="1195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2.5 Elision in pre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219320" y="18892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front of a word beginning with a vow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640" y="2571840"/>
          <a:ext cx="7848720" cy="1371600"/>
        </p:xfrm>
        <a:graphic>
          <a:graphicData uri="http://schemas.openxmlformats.org/drawingml/2006/table">
            <a:tbl>
              <a:tblPr/>
              <a:tblGrid>
                <a:gridCol w="4753080"/>
                <a:gridCol w="30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, δια, ἐπι, κατα, μετα, παρα, ὑπ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 their final vow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ξω, περ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ρ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in unchang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9"/>
          <p:cNvSpPr/>
          <p:nvPr/>
        </p:nvSpPr>
        <p:spPr>
          <a:xfrm>
            <a:off x="1928880" y="442908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δι’ αὐτ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through h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περι ἁμαρτι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concerning sin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ξ οἰκι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from the ho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08320" y="4143240"/>
            <a:ext cx="148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CDEC3E1B-2495-4575-9237-E088FA6FE9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457200" y="16002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English, there are two uses of 'with' or 'by‘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98600"/>
          <a:ext cx="8229600" cy="1968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dicate the means by which something happens, or an instrument or agent used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helped </a:t>
                      </a:r>
                      <a:r>
                        <a:rPr b="0" lang="en-GB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walking </a:t>
                      </a:r>
                      <a:r>
                        <a:rPr b="0" lang="en-GB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with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stick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hit </a:t>
                      </a:r>
                      <a:r>
                        <a:rPr b="0" lang="en-GB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ston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35"/>
          <p:cNvSpPr/>
          <p:nvPr/>
        </p:nvSpPr>
        <p:spPr>
          <a:xfrm>
            <a:off x="428760" y="4572000"/>
            <a:ext cx="82296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'with' in a different sense, not meaning 'by means of' but rather 'along with'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 went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i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him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7029CBE6-778B-4F3D-BF46-C4DD4396465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57120" y="928800"/>
            <a:ext cx="838224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inanima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bject by means of which the action of the verb happens; dative - no prepos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d makes the heavens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ith a wor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θεος ποιει τους ουρανους  λογ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wever, sometimes an instrument is expressed by the preposition 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+ d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1A73F28B-2E1D-434E-B52D-5381CE19B1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80880" y="1444680"/>
            <a:ext cx="670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Greek, ‘with’ and ‘by’ expr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1A48483B-A1F8-46A5-A7F2-3919B6B7C8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6680" y="2449440"/>
            <a:ext cx="904860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With' meaning 'along with' rather than 'by means of';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μετ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r more rarely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+ dat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depart with Peter –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ὑπαγω του Πετρο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ὁ θεος λεγει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μετα τεκνων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και ποιει τον κοσμον λογ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 speak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ith childr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makes the worl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ith a wo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68120" y="1114560"/>
            <a:ext cx="7858440" cy="23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gent is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iving be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y means of which the action of the ver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ppen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.g.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ὑπ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+ 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ospel was proclaime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y Pe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…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ὑπο του Πετρο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409760" y="1843200"/>
            <a:ext cx="632448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reek many words are constructed by combining a basic word with a pre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ou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λλ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= I th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βαλλ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I throw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849E56E1-AC1B-4E10-9301-5F38DC4D72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C0B938FD-2801-417E-B18D-C2C573FFE4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135080"/>
            <a:ext cx="8534160" cy="51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· In Greek you cannot always deduce the meaning of a word from its par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ce of both the verb and the preposition is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βαλλ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I throw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the meaning is intensified or completed, though without the force of the preposition being clearly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λυ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I release (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tself means 'I untie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the verb is given a new meaning, which is not easily connected to the force of the prepos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ναγινωσκ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I read (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ινωσκ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tself means 'I know' and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ν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'upwards' or 'again'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62B53F17-4B29-4ADC-8807-2660561B6A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14200" y="1357200"/>
            <a:ext cx="871560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forming compounds, the rules for th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elis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of prepositions are particularly important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γ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αγω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I lead awa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n though a compound verb may 'contain' a preposition, the correct preposition will still be found in the sentence used in the normal way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κ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αλλω αὐτο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κ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της οἰκ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0B98C28D-DA20-499D-A66D-6C222C23FE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00040" y="1214280"/>
            <a:ext cx="79297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gnifie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ce betwee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 an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nd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500280" y="3500280"/>
            <a:ext cx="2143440" cy="1714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143240" y="3954600"/>
            <a:ext cx="8575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000000"/>
                </a:solidFill>
                <a:latin typeface="Gentium"/>
              </a:rPr>
              <a:t>ἐν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9"/>
          <p:cNvCxnSpPr/>
          <p:nvPr/>
        </p:nvCxnSpPr>
        <p:spPr>
          <a:xfrm>
            <a:off x="1143000" y="3785760"/>
            <a:ext cx="19296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Box 20"/>
          <p:cNvSpPr/>
          <p:nvPr/>
        </p:nvSpPr>
        <p:spPr>
          <a:xfrm>
            <a:off x="1357200" y="30718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000000"/>
                </a:solidFill>
                <a:latin typeface="Gentium"/>
              </a:rPr>
              <a:t>προ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21"/>
          <p:cNvCxnSpPr/>
          <p:nvPr/>
        </p:nvCxnSpPr>
        <p:spPr>
          <a:xfrm>
            <a:off x="6000840" y="3785760"/>
            <a:ext cx="19296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2"/>
          <p:cNvSpPr/>
          <p:nvPr/>
        </p:nvSpPr>
        <p:spPr>
          <a:xfrm>
            <a:off x="6357960" y="3084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000000"/>
                </a:solidFill>
                <a:latin typeface="Gentium"/>
              </a:rPr>
              <a:t>ἀπο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23"/>
          <p:cNvCxnSpPr/>
          <p:nvPr/>
        </p:nvCxnSpPr>
        <p:spPr>
          <a:xfrm>
            <a:off x="1143000" y="4928760"/>
            <a:ext cx="2929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Straight Arrow Connector 25"/>
          <p:cNvCxnSpPr/>
          <p:nvPr/>
        </p:nvCxnSpPr>
        <p:spPr>
          <a:xfrm>
            <a:off x="5143320" y="4928760"/>
            <a:ext cx="2929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TextBox 26"/>
          <p:cNvSpPr/>
          <p:nvPr/>
        </p:nvSpPr>
        <p:spPr>
          <a:xfrm>
            <a:off x="1500120" y="42400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000000"/>
                </a:solidFill>
                <a:latin typeface="Gentium"/>
              </a:rPr>
              <a:t>εἰ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6500880" y="4227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000000"/>
                </a:solidFill>
                <a:latin typeface="Gentium"/>
              </a:rPr>
              <a:t>ἐ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642960" y="1454040"/>
            <a:ext cx="80010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Use a question word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ω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how? 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ου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; - wher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ως βλεπεις τον θε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; - How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Rely on tone of voice; but when written, questions are marked with a question ma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- You see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; -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37240" y="1284120"/>
            <a:ext cx="467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king questions is simple in Gre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0B56A575-A747-43EE-A6E6-A32A4421EF1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285840" y="1481040"/>
            <a:ext cx="835812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verb in th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Indicati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which means all the verbs we have met so far) is made negative by the addition of the word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=‘not’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moo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reathing this become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oug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reathing this becaus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: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 βλεπ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- I do not se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κ ἀκουουσι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- They do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ὐκ εὑρισκει το τεκν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– She does not find the chil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3B673FDB-3ED1-437B-98BC-0EFA483D83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71280" y="1179360"/>
            <a:ext cx="9072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2900" spc="-1" strike="noStrike">
                <a:solidFill>
                  <a:srgbClr val="000000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000000"/>
                </a:solidFill>
                <a:uFillTx/>
                <a:latin typeface="Gentium"/>
              </a:rPr>
              <a:t>εἰς την οἰκαν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Gentiu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the master –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the slave –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.  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ην οἰκια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the object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cause it is governed by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hich takes th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us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ntence = 'The master is leading the slav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into the house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ED26D9AD-6792-4B3B-A494-FE59C299363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471600" y="1500120"/>
            <a:ext cx="788652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000000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000000"/>
                </a:solidFill>
                <a:uFillTx/>
                <a:latin typeface="Gentium"/>
              </a:rPr>
              <a:t>ἐκ της οἰκιας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the master –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n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the slave –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ης οἰκια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– the object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gen.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cause it is governed by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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hich 'takes' the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genitiv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ntence = 'The master leads the slave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out of the house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'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96CC250D-B061-4A45-B572-DC4FB82770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785880" y="2408400"/>
            <a:ext cx="7572240" cy="23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The two different factors which determine which case a noun will be in: function in the sentence or preposition. Fortunately, these two never clash.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-71280" y="2602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53D91FB7-E074-4F00-B199-EAAFF41F9A7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647640" y="1905120"/>
            <a:ext cx="7848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2.1 The principle of prepositions with more than one c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19320" y="3657600"/>
            <a:ext cx="6705360" cy="1328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e same preposition has a different meaning when it is used with a different c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2737C719-352A-49BE-8E5F-79880B05FF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A455A5E7-47B0-4A26-88D2-5014AD1B1F1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5800" y="1353960"/>
            <a:ext cx="777240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Gentium"/>
              </a:rPr>
              <a:t>παρα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Gentium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2798640"/>
          <a:ext cx="8215200" cy="2578320"/>
        </p:xfrm>
        <a:graphic>
          <a:graphicData uri="http://schemas.openxmlformats.org/drawingml/2006/table">
            <a:tbl>
              <a:tblPr/>
              <a:tblGrid>
                <a:gridCol w="1563840"/>
                <a:gridCol w="665136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on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side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εριπατει παρα την θαλασ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he walk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beside 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νθρωπος παρα του θε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 man from G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ide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δασκει παρα τῃ θαλασσ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he teache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94D5C772-19D4-47F1-B99D-645D25B9541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04960" y="1195560"/>
            <a:ext cx="7696080" cy="12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Gentium"/>
                <a:ea typeface="Times New Roman"/>
              </a:rPr>
              <a:t>ἐπι +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57160" y="2357280"/>
          <a:ext cx="7562880" cy="3859200"/>
        </p:xfrm>
        <a:graphic>
          <a:graphicData uri="http://schemas.openxmlformats.org/drawingml/2006/table">
            <a:tbl>
              <a:tblPr/>
              <a:tblGrid>
                <a:gridCol w="1876680"/>
                <a:gridCol w="568620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βαλλει τον ἀρτον ἐπι το βιβλ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he throws the bread onto the boo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πι της γη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on the land/earth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time of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εριπατει ἐπι του Ἰησου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he lives in the time of Je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/in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πι τοις οὐρα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n the heave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basis o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ὐ περιπατει ἐπι ἀρτῳ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he does not live by brea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:Grammar </a:t>
            </a:r>
            <a:fld id="{62CBF1A9-BF31-4CC5-8F11-8C2CD88CED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4200" y="2254320"/>
          <a:ext cx="8715600" cy="3531960"/>
        </p:xfrm>
        <a:graphic>
          <a:graphicData uri="http://schemas.openxmlformats.org/drawingml/2006/table">
            <a:tbl>
              <a:tblPr/>
              <a:tblGrid>
                <a:gridCol w="984240"/>
                <a:gridCol w="1722600"/>
                <a:gridCol w="600876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ause of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α τον ὀχλο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because of the crow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α του ἀγγελου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hrough the messeng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rding to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 νομο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according to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ainst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 του Ἰησου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against Jesu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ετ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ετα το σαββατο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after the Sabbath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ετα αὐτου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with hi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3:59:45Z</dcterms:created>
  <dc:creator>Sarah</dc:creator>
  <dc:description/>
  <dc:language>en-US</dc:language>
  <cp:lastModifiedBy>Sarah</cp:lastModifiedBy>
  <dcterms:modified xsi:type="dcterms:W3CDTF">2009-07-10T21:49:12Z</dcterms:modified>
  <cp:revision>63</cp:revision>
  <dc:subject/>
  <dc:title>Slide 1</dc:title>
</cp:coreProperties>
</file>